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89.wmf" ContentType="image/x-wmf"/>
  <Override PartName="/ppt/media/image77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90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2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51600" y="880128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6D63DC03-F2E2-42BC-9B1A-8432C65FFB9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403280" y="844200"/>
            <a:ext cx="405144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4200" y="8796240"/>
            <a:ext cx="192852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0940_03F8_c1__c1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sc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388620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862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-14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-144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ldImg"/>
          </p:nvPr>
        </p:nvSpPr>
        <p:spPr>
          <a:xfrm>
            <a:off x="1406520" y="844560"/>
            <a:ext cx="4044960" cy="3035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7820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03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608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7820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03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44400" y="196920"/>
            <a:ext cx="73058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4847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D805D2BB-0169-4A88-B48F-1D4F5DAEA89B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8988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3072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352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image" Target="../media/image59.wmf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image" Target="../media/image56.wmf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image" Target="../media/image69.wmf"/><Relationship Id="rId10" Type="http://schemas.openxmlformats.org/officeDocument/2006/relationships/image" Target="../media/image70.wmf"/><Relationship Id="rId11" Type="http://schemas.openxmlformats.org/officeDocument/2006/relationships/image" Target="../media/image71.wmf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3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4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image" Target="../media/image83.wmf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8.wmf"/><Relationship Id="rId7" Type="http://schemas.openxmlformats.org/officeDocument/2006/relationships/image" Target="../media/image91.wmf"/><Relationship Id="rId8" Type="http://schemas.openxmlformats.org/officeDocument/2006/relationships/image" Target="../media/image87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91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9.wmf"/><Relationship Id="rId7" Type="http://schemas.openxmlformats.org/officeDocument/2006/relationships/image" Target="../media/image87.wmf"/><Relationship Id="rId8" Type="http://schemas.openxmlformats.org/officeDocument/2006/relationships/image" Target="../media/image91.wmf"/><Relationship Id="rId9" Type="http://schemas.openxmlformats.org/officeDocument/2006/relationships/image" Target="../media/image8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8.wmf"/><Relationship Id="rId3" Type="http://schemas.openxmlformats.org/officeDocument/2006/relationships/image" Target="../media/image84.wmf"/><Relationship Id="rId4" Type="http://schemas.openxmlformats.org/officeDocument/2006/relationships/image" Target="../media/image90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9.wmf"/><Relationship Id="rId8" Type="http://schemas.openxmlformats.org/officeDocument/2006/relationships/image" Target="../media/image87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4.wmf"/><Relationship Id="rId7" Type="http://schemas.openxmlformats.org/officeDocument/2006/relationships/image" Target="../media/image90.wmf"/><Relationship Id="rId8" Type="http://schemas.openxmlformats.org/officeDocument/2006/relationships/image" Target="../media/image85.wmf"/><Relationship Id="rId9" Type="http://schemas.openxmlformats.org/officeDocument/2006/relationships/image" Target="../media/image86.wmf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6.wmf"/><Relationship Id="rId7" Type="http://schemas.openxmlformats.org/officeDocument/2006/relationships/image" Target="../media/image101.wmf"/><Relationship Id="rId8" Type="http://schemas.openxmlformats.org/officeDocument/2006/relationships/image" Target="../media/image84.wmf"/><Relationship Id="rId9" Type="http://schemas.openxmlformats.org/officeDocument/2006/relationships/image" Target="../media/image90.wmf"/><Relationship Id="rId10" Type="http://schemas.openxmlformats.org/officeDocument/2006/relationships/image" Target="../media/image85.wmf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360" y="1982880"/>
            <a:ext cx="6689880" cy="1295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ulticast Rout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3243240"/>
            <a:ext cx="66898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nacio Martin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martin@cisco.c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4600" y="439560"/>
            <a:ext cx="7378560" cy="12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18800" y="5746680"/>
            <a:ext cx="4419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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, Cisco System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5000"/>
          </a:bodyPr>
          <a:p>
            <a:pPr marL="218160" indent="-21816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r sends IGMP query messages to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4.0.0.1 with ttl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router on LAN is designated/elected to send 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y interval 60–120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GMP report sent by one host suppresse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ing by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trict to one report per group per 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licited reports sent by host, when i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joins the grou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57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655400" y="5889600"/>
            <a:ext cx="259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Join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2892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180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884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0648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56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71760" y="4127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7400" y="2644920"/>
            <a:ext cx="788760" cy="701640"/>
          </a:xfrm>
          <a:custGeom>
            <a:avLst/>
            <a:gdLst/>
            <a:ahLst/>
            <a:rect l="l" t="t" r="r" b="b"/>
            <a:pathLst>
              <a:path w="497" h="442">
                <a:moveTo>
                  <a:pt x="496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95960" y="2644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8960" y="3490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3160" y="1641600"/>
            <a:ext cx="93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06080" y="1753920"/>
            <a:ext cx="7311960" cy="3539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t sends leave message if it leaves the group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is the last member (reduces leave latency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mparison to v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sends G-specific queries to make s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no members present before stopp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ward data for the group for that sub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 querier 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ables to listen only to a specified subse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hosts sending to the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Leav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892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180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884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924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32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71760" y="4100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740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497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9596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8960" y="3463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73160" y="186516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71960" y="2266920"/>
            <a:ext cx="790560" cy="382680"/>
          </a:xfrm>
          <a:custGeom>
            <a:avLst/>
            <a:gdLst/>
            <a:ahLst/>
            <a:rect l="l" t="t" r="r" b="b"/>
            <a:pathLst>
              <a:path w="498" h="241">
                <a:moveTo>
                  <a:pt x="497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04440" y="261288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71760" y="471312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7520" y="1498680"/>
            <a:ext cx="7311960" cy="1177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What is RP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router forwards a multicast datagram if received on the interface used to send unicast datagrams to the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41600" y="3551040"/>
            <a:ext cx="5065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4440" y="4059360"/>
            <a:ext cx="83520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4200" y="344340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13280" y="453564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450040" y="4060800"/>
            <a:ext cx="6174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465520" y="3554280"/>
            <a:ext cx="6238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74880" y="3562200"/>
            <a:ext cx="85680" cy="3175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5000" y="3691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9520" y="3654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9800" y="4227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32040" y="422748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7160" y="39546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55440" y="3803760"/>
            <a:ext cx="78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75360" y="3954600"/>
            <a:ext cx="27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200" y="380376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798560" y="2863440"/>
            <a:ext cx="750960" cy="65556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08200" y="2859120"/>
            <a:ext cx="2995560" cy="792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62440" y="2908440"/>
            <a:ext cx="689040" cy="49500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0560" y="4680000"/>
            <a:ext cx="746280" cy="6382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09800" y="5380200"/>
            <a:ext cx="2793960" cy="144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680080" y="4696920"/>
            <a:ext cx="792000" cy="74772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59840" y="285444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86760" y="53690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75000" y="4780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96000" y="47800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60720" y="318132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60720" y="4287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575240" y="31701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575240" y="42735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05520" y="3666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666800" y="3666960"/>
            <a:ext cx="987480" cy="58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082960" y="4497480"/>
            <a:ext cx="4384440" cy="669960"/>
          </a:xfrm>
          <a:custGeom>
            <a:avLst/>
            <a:gdLst/>
            <a:ahLst/>
            <a:rect l="l" t="t" r="r" b="b"/>
            <a:pathLst>
              <a:path w="2762" h="422">
                <a:moveTo>
                  <a:pt x="0" y="0"/>
                </a:moveTo>
                <a:lnTo>
                  <a:pt x="495" y="421"/>
                </a:lnTo>
                <a:lnTo>
                  <a:pt x="2308" y="415"/>
                </a:lnTo>
                <a:lnTo>
                  <a:pt x="2761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440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56920" y="1985040"/>
            <a:ext cx="7010280" cy="3105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succeed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forw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fail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ypically silently disc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datagram is forwarded, it is sent out each interface in the outgoing interfac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cket i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warded back out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F interfac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397160"/>
            <a:ext cx="5792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95440" y="32479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1600" y="30078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41640" y="3451320"/>
            <a:ext cx="3709080" cy="292680"/>
            <a:chOff x="2141640" y="3451320"/>
            <a:chExt cx="3709080" cy="292680"/>
          </a:xfrm>
        </p:grpSpPr>
        <p:sp>
          <p:nvSpPr>
            <p:cNvPr id="256" name=""/>
            <p:cNvSpPr/>
            <p:nvPr/>
          </p:nvSpPr>
          <p:spPr>
            <a:xfrm>
              <a:off x="3284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41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258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9640" y="3451320"/>
              <a:ext cx="271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8680" y="1897200"/>
            <a:ext cx="8499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5880" y="2125800"/>
            <a:ext cx="1765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275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00280" y="1397160"/>
            <a:ext cx="4726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84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594480" y="3052800"/>
            <a:ext cx="0" cy="48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41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51440" y="3465360"/>
            <a:ext cx="15174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79640" y="3451320"/>
            <a:ext cx="271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3360" y="1897200"/>
            <a:ext cx="10191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73600" y="1897200"/>
            <a:ext cx="2133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302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614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471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919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95920" y="3125880"/>
            <a:ext cx="42732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62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1000" y="320184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7520" y="1829880"/>
            <a:ext cx="7311960" cy="3311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9000"/>
          </a:bodyPr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tribution tr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urce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more memory O(S x G) but you get optimal paths from source to all receivers, minimizes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ared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less memory O(G) but you may get suboptimal paths from source to all receiver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y introduce extra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M, DVMRP, MOSPF, C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6080" y="171936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ypes of multicast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cast and prune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radio broad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r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icit join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pay-per-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8320" y="1345320"/>
            <a:ext cx="7467480" cy="3865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Technology and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Host-to-Router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Routing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ocol Independent Multicast—PIM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 Multicast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liverabl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44040" y="419040"/>
            <a:ext cx="2041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s dense group membershi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es that are pruned don’t ge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duce join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MRP—Distance Vector Multicast Rout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-mode PIM—Protocol Independ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ar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umes group membership is sparsely populated across a large reg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either source or shared distribution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icit join behavior—assumes no one want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acket unless ask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ins propagate from receiver to sourc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Rendezvous Point (Sparse mode PIM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Core (Core Based Tre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roadcast and prune ideal for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nse group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urce trees created on demand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sed on RPF r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f the source goes inactive, the tree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s torn dow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asy plug-and-pla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raft: draft-ietf-idmr-pim-dm-spec-05.t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540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4000"/>
          </a:bodyPr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anches that don't care for data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pru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fts to join existing source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s asserts to determine forwarder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multi-access 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unes on non-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ate-limited prunes on 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V="1">
            <a:off x="1830240" y="2277720"/>
            <a:ext cx="998640" cy="104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8280" y="4395960"/>
            <a:ext cx="99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7800" y="27255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27800" y="3862440"/>
            <a:ext cx="51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0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1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2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370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380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33040" y="1449360"/>
            <a:ext cx="221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29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32320" y="1449360"/>
            <a:ext cx="28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84280" y="283356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 flipV="1">
            <a:off x="1944720" y="2481120"/>
            <a:ext cx="884160" cy="935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83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7524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34480" y="1449360"/>
            <a:ext cx="31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3583080"/>
            <a:ext cx="92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3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462040" y="3981600"/>
            <a:ext cx="0" cy="27432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603760" y="2421000"/>
            <a:ext cx="3510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03760" y="3633840"/>
            <a:ext cx="35100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33400" y="1449360"/>
            <a:ext cx="2500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52560" y="3963960"/>
            <a:ext cx="8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3432240"/>
            <a:ext cx="154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29280" y="228744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97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48960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8280" y="4395960"/>
            <a:ext cx="96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9"/>
          <a:stretch/>
        </p:blipFill>
        <p:spPr>
          <a:xfrm>
            <a:off x="2870280" y="50547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54360" y="3963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34120" y="1449360"/>
            <a:ext cx="287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654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85520" y="97776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9000"/>
          </a:bodyPr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hy multicast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sending same data to multiple recei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bandwidth util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sser host/router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eivers’ addresses unkn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deo/audio confere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discovery/service advertis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ck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. Vat, Vic, IP/TV, Point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5983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62520" y="46674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9719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12960" y="4395960"/>
            <a:ext cx="809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2870280" y="520704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41800" y="495468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70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239400" y="1023840"/>
            <a:ext cx="7645320" cy="450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joi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join to the Rendezvous Point (R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s register with the 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laces that need the data from the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hop routers can join source tree if the data rate warrants by sending joins to the 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hared tree uses the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the 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28320" y="1642320"/>
            <a:ext cx="7467480" cy="32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one RP is chosen for a particular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 statically configured or dynamically learned (Auto-RP, PIM v2 candidate RP advertisem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orwarded based on the source state (S, G)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it exists, otherwise use the shared state (*, 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sm-specv2-00.t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arch-04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2803680" y="3916440"/>
            <a:ext cx="0" cy="59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68760" y="3909960"/>
            <a:ext cx="0" cy="5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755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16400" y="1122480"/>
            <a:ext cx="271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44960" y="332748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16400" y="1122480"/>
            <a:ext cx="2108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16400" y="1122480"/>
            <a:ext cx="2641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47400" y="19605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0976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192"/>
                </a:moveTo>
                <a:lnTo>
                  <a:pt x="1200" y="0"/>
                </a:lnTo>
                <a:lnTo>
                  <a:pt x="288" y="0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7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84184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0852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50040" y="2506320"/>
            <a:ext cx="0" cy="55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16400" y="1122480"/>
            <a:ext cx="2717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6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7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819520" y="1960560"/>
            <a:ext cx="1330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6204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288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33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76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19760" y="28209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10120" y="2820960"/>
            <a:ext cx="4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316400" y="1122480"/>
            <a:ext cx="2870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6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7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933560" y="2990880"/>
            <a:ext cx="642960" cy="64296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9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358280" y="34844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420840"/>
            <a:ext cx="4259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icast/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400" y="21146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9800" y="27241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7920" y="1568520"/>
            <a:ext cx="128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9800" y="190188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15000" y="20732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41920" y="20494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15000" y="319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052880" y="2138400"/>
            <a:ext cx="517680" cy="293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9520" y="217332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54040" y="232236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646360" y="12272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97200" y="13777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90800" y="1812600"/>
            <a:ext cx="5572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44920" y="1201680"/>
            <a:ext cx="9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70120" y="135108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70280" y="2376360"/>
            <a:ext cx="566640" cy="5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95760" y="25257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49600" y="18525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5080" y="20034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222732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9800" y="30002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5000" y="18748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5000" y="202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2320" y="1506600"/>
            <a:ext cx="71136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4400" y="46292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79800" y="52387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6480" y="407844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4438800"/>
            <a:ext cx="112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5000" y="45878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841920" y="45640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5000" y="570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46360" y="37418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97200" y="38923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787920" y="4350960"/>
            <a:ext cx="536400" cy="6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4920" y="3716280"/>
            <a:ext cx="100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4920" y="38671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13120" y="4933800"/>
            <a:ext cx="492120" cy="49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95760" y="50403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9920" y="34974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41720" y="4767120"/>
            <a:ext cx="831960" cy="49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49600" y="43671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5080" y="45180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7840" y="5559480"/>
            <a:ext cx="9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43894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5000" y="453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52320" y="40212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062080" y="40845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302000" y="16444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139920" y="9828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141720" y="225252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062080" y="15699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302000" y="27766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4302000" y="41590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4302000" y="52912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5692680" y="15606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5692680" y="27003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5692680" y="409572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5692680" y="52149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4363920" y="91908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4363920" y="3433680"/>
            <a:ext cx="711360" cy="62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3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5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54600" y="3327480"/>
            <a:ext cx="1779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2847600" y="2286000"/>
            <a:ext cx="1194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16400" y="1122480"/>
            <a:ext cx="34034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6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7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8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3165480" y="3786120"/>
            <a:ext cx="12654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9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3499560" y="3403440"/>
            <a:ext cx="1006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7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9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6340320" y="2654280"/>
            <a:ext cx="47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7"/>
          <a:stretch/>
        </p:blipFill>
        <p:spPr>
          <a:xfrm>
            <a:off x="6691320" y="237168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8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9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0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6532200" y="2951280"/>
            <a:ext cx="915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866920" y="21891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38560" y="2363760"/>
            <a:ext cx="2059200" cy="306360"/>
          </a:xfrm>
          <a:custGeom>
            <a:avLst/>
            <a:gdLst/>
            <a:ahLst/>
            <a:rect l="l" t="t" r="r" b="b"/>
            <a:pathLst>
              <a:path w="1297" h="193">
                <a:moveTo>
                  <a:pt x="1296" y="192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TL sco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keep multicast traffic within an administrative domain by setting ttl thresholds on interface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ively scoped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ulticast boundary can be setup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s for addresses in rang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239.0.0.0–239.255.255.2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than ttl scoping (pruning, solid w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Scope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/>
          </p:nvPr>
        </p:nvSpPr>
        <p:spPr>
          <a:xfrm>
            <a:off x="406080" y="156672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2000"/>
          </a:bodyPr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end traffic to a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and output rate-limit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-tree threshol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PIM-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res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tree saves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9000"/>
          </a:bodyPr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operability for differen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protocol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/DVMRP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between PIM SM/DM reg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VMRP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ONE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-SM/PIM-DM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 has to be the border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Router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406080" y="1525320"/>
            <a:ext cx="7311960" cy="3616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0000"/>
          </a:bodyPr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Ethernet bridges/switch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all multicast traffic to all 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MP snoo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goes to segments with routers and me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suppression per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 (Cisco Group Management Protoc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/member seg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es do not snoop into IGMP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and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fast switching/fastdr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static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trace/mrinfo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NBMA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SPT threshol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oped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GMP v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GMP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-R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DR listener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lper ma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37800" y="1171080"/>
            <a:ext cx="6248520" cy="4212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FC 111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multicast group identifi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a class D IP addr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of the group could be present anywhere in the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join and leave the group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indicate this to the rou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ers and receivers are distinct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e., a sender need not be a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uters listen to all multicast addre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use multicast routing protocol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manage grou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94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Service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1 CC bran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ISP branch (FIB/CE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FIB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MBGP, MDFS, CE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2F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over A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MRP interoperability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3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tags swi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.0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mbone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e-mai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cast—support@cisco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BONE—open session “cisco PIM us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recomm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ble—11.1(9) new features—11.3, 11.3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487520" y="1154160"/>
            <a:ext cx="5133960" cy="37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080" y="1982520"/>
            <a:ext cx="7311960" cy="315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5000"/>
          </a:bodyPr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 group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ass D address—high-order 3 bits are set (224.0.0.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ge from 224.0.0.0 through 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ll known addresses designated by I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rved use: 224.0.0.0 through 224.0.0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1—all multicast system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2—all router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ient addresses, assign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reclaimed dynam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lobal scope: 224.0.1.0-238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 scope: 239.0.0.0-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e-local scope: 239.253.0.0/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ganization-local scope: 239.192.0.0/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pping IP group addresses to data link multicast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FC 1112 defines OUI 0x01005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w-order 23-bits of IP address map into low-orde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 bits of IEEE address (eg. 224.2.2.2–01005e.0202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thernet and FDDI use this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ken Ring uses functional address-c000.4000.0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23600" y="1965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3600" y="3605040"/>
            <a:ext cx="133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6160" y="1276200"/>
            <a:ext cx="371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7240" y="5086440"/>
            <a:ext cx="417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701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417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33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305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021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73760" y="1762200"/>
            <a:ext cx="917280" cy="807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82840" y="3828960"/>
            <a:ext cx="808200" cy="808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629160" y="453708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39408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8936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81160" y="3546360"/>
            <a:ext cx="2159280" cy="517680"/>
            <a:chOff x="2981160" y="3546360"/>
            <a:chExt cx="2159280" cy="517680"/>
          </a:xfrm>
        </p:grpSpPr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298116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27680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2039760" y="3049560"/>
            <a:ext cx="40086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414440"/>
            <a:ext cx="68580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hosts tell routers about group member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ers solicit group membership from directly connected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C 1112 specifies first version of IG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 and IGMP v3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ed on UNIX systems, PC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MA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48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655040" y="5889600"/>
            <a:ext cx="203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5T10:26:21Z</dcterms:created>
  <dc:creator>Manoj Leelanivas</dc:creator>
  <dc:description/>
  <dc:language>en-US</dc:language>
  <cp:lastModifiedBy>Ignacio Martinez</cp:lastModifiedBy>
  <cp:lastPrinted>1998-11-30T15:28:18Z</cp:lastPrinted>
  <dcterms:modified xsi:type="dcterms:W3CDTF">1998-11-30T15:56:55Z</dcterms:modified>
  <cp:revision>2</cp:revision>
  <dc:subject/>
  <dc:title>Introduction to IP Multicast</dc:title>
</cp:coreProperties>
</file>